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5AC0-3AB6-45BB-9892-661BCEEFD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0C4B-1A3A-4698-9B12-0868D87C1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7417-0207-47AE-8B69-89C7083F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B7BE-279D-4EF6-995E-81865D4F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B3D6-CA7C-446C-BC31-8138E16D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236A-235E-436F-B9E7-9E90B2A2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67F3-188A-440D-84C3-326532C7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E170-183A-4B8B-ADF9-08014581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665E-8559-4669-8836-D6C355E0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ADC9-C8A7-4960-94EE-1B87CD2C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C75E-FBBD-4EE0-A6AF-C3125016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9D26-6706-4344-82AC-6922FF60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0FE8-5BDA-48E8-A9BB-A553C284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ED45-8D4D-4DD1-BF22-C891C620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2944-D5DF-425B-A2E3-084D81B39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athy Hum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8288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Kathy. Yo vivo en New York. Tengo catorce años. Yo tengo dos hermanas y un hermano. Yo soy joven. Mi gusta jugar muchos deportes y tambien mi gusta comer mucho.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510228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1022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609480" y="5334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814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91440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4:56:26Z</dcterms:modified>
  <cp:revision>102</cp:revision>
  <dc:subject/>
  <dc:title>Profile</dc:title>
</cp:coreProperties>
</file>